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3960" y="359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664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960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396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960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664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6408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Purpose and organisation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          Eric Sawyer  RAL 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fld id="{E8E1E897-9FE3-4465-9535-728895AB8F1B}" type="slidenum"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228600"/>
            <a:ext cx="7086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Instrument Hardware Design Review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RAL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July 9, 10 2003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48428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484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ff"/>
                </a:solidFill>
                <a:latin typeface="Arial"/>
              </a:rPr>
              <a:t>Purpose and organis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Eric Sawyer</a:t>
            </a:r>
            <a:br>
              <a:rPr sz="2500"/>
            </a:br>
            <a:br>
              <a:rPr sz="3300"/>
            </a:b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RA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1480" y="14443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A Defined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ssessment of the instrument AVM/CQM programme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inition of the acceptance criteria of the AVM/CQM models for spacecraft system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ance and freeze of the on-board software (Architectural Design Docu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iew of the ground facilities (h/w and s/w) required to support the I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66920" y="797040"/>
            <a:ext cx="7002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01480" y="14443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dditional SPIRE Defined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system technical status, with emphasis on test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M test results to 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acecraft interfaces, especially FPU thermal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rument AIV plan and sche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iguration stat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66920" y="797040"/>
            <a:ext cx="7002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1242720"/>
            <a:ext cx="77724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Organisation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214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ystem level presentations including the development pl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bsystem 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IV and P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entations to finish within allocated time and allow for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ssion Chair to maintain sche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lots allocated for questions at the end of the morning and afternoon sess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3200" y="1242720"/>
            <a:ext cx="77724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Organisation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2149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ry busy period for the pro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view should not interfere with project progr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ocumentation is a snap shot as of mid Ma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assume that the reviewers are familiar with SPIRE so a minimum of design description is included in the presen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ill concentrate on progress since the IBDR, particular problem areas and planned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3:25:06Z</dcterms:created>
  <dc:creator>Matt Griffin</dc:creator>
  <dc:description/>
  <dc:language>en-US</dc:language>
  <cp:lastModifiedBy>ECS53</cp:lastModifiedBy>
  <dcterms:modified xsi:type="dcterms:W3CDTF">2003-07-08T14:35:57Z</dcterms:modified>
  <cp:revision>12</cp:revision>
  <dc:subject/>
  <dc:title>Presentation Title</dc:title>
</cp:coreProperties>
</file>