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3960" y="359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3960" y="359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6640" y="359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1960" y="144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9600" y="144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3960" y="359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1960" y="359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9600" y="359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3960" y="144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3960" y="359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6640" y="359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396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6640" y="144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3960" y="359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23960" y="144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480" y="6364080"/>
            <a:ext cx="7848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Critical Items List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Matt Griffin,  Cardiff University 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fld id="{290C1B78-8CAF-4ED5-9978-E3EA1E2256ED}" type="slidenum"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1" lang="en-GB" sz="1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228600"/>
            <a:ext cx="7086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Instrument Hardware Design Review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RAL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July 9, 10 2003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148428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48428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11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ff"/>
                </a:solidFill>
                <a:latin typeface="Arial"/>
              </a:rPr>
              <a:t>Critical Items List</a:t>
            </a:r>
            <a:br>
              <a:rPr sz="3300"/>
            </a:br>
            <a:br>
              <a:rPr sz="3300"/>
            </a:b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Matt Griffin</a:t>
            </a:r>
            <a:br>
              <a:rPr sz="2500"/>
            </a:br>
            <a:br>
              <a:rPr sz="3300"/>
            </a:b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Cardiff Universit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19160" y="584280"/>
            <a:ext cx="5989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8.  SPIRE Level-0 Strap Interface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400" y="1474920"/>
            <a:ext cx="8007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interface design is inadequate and must be chang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proven in time for CQM cold vibration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essure of work on structure and recovery from maj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actor bankruptcy has delayed redesig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mproved design now being developed with objective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stallation in CQ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90720" y="741240"/>
            <a:ext cx="7146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9.   FTS Mechanism Vibration Qualification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400" y="1474920"/>
            <a:ext cx="800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MECm design was not compatible with vibration level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edicted by FEA model (by a factor of fo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duced vibration levels after SM instrument vibrati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design should now be compa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Qualification tests will take place at unit level befor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livery of the PFM SME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440" y="669960"/>
            <a:ext cx="5989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10.   BDA Qualif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600" y="1260360"/>
            <a:ext cx="8007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DA qualification and test programme have been severely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layed due to problems with Kevlar supports for 300-m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ge -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w have major strain wrt future delivery dat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cold vibration has now taken place (but som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Kevlar fray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35040" y="584280"/>
            <a:ext cx="68756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11.    JFET Noise and Power Dissip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880" y="1303200"/>
            <a:ext cx="8264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best noise performance (~ 7 nV Hz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/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, JFETs need to b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erated at about 120 K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sipation needed in photometer mode (worst case) ~ 70 mW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allocation 42 mW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QM tests will clarify severity of 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wer can be reduced at the expense of higher noise, or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FETs can be switched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ated membranes could eliminate problem – but no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seline for cost/schedule rea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mal isolation of JFET rack being studied at 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49520" y="554040"/>
            <a:ext cx="63468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12.   300-mK Thermal Strap Support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1230480"/>
            <a:ext cx="8340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00-mK thermal strap system light-baffle and thermal strap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unit failed due to Kevlar friction under warm vibrati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the instrument SM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RB established cause as a workmanship problem bu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roved design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w design now in manufacture and will be tested at unit-level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fore installation in CQM in mid-Aug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49520" y="525600"/>
            <a:ext cx="63608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13.   FPU Internal Black Coating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3680" y="1230480"/>
            <a:ext cx="8340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Qualification of suitable black compound is not yet complete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ign and manufacture of the black tiles to be installed in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PU has yet to be carri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rogramme has been slowed down by 300-mK thermal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rap recovery programm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work-around will need to be formulated to qualify for use 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63840" y="468360"/>
            <a:ext cx="64465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14.   Correction of Mirror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7720" y="1244520"/>
            <a:ext cx="8340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QM CM3 mirror is misaligned by 0.5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nd two others ha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mall misalign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M are having CM3 remade – foreseen to be available f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tro-fit in the CQM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the worst case, CQM programme will use existing mirror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ith compromised testing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77880" y="511200"/>
            <a:ext cx="6446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15.   Filter Availability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7720" y="1244520"/>
            <a:ext cx="8340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ion problems with large area filters have now b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lve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IV and CQM instrument filters now in production – schedule 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ritical after delays due to production difficulties; top priority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filter production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chedule for on-time delivery of PFM filter set is very tight and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ill be closely tracked by the Project T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20720" y="511200"/>
            <a:ext cx="6404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16.   Microvibration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7720" y="1244520"/>
            <a:ext cx="8340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 update since IBD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lometers and SMEC position sensor potentially vulnerabl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microvibration noi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alysis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levels of vibration due to the spacecraft should no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se a significant problem, but uncertainties are 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ep-and-integrate FTS modes (less sensitive to microphonics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n b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mited tests will be done on CQM and P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77880" y="554040"/>
            <a:ext cx="6375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Reminder:  IBDR Critical Items List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5240" y="1235160"/>
            <a:ext cx="6932520" cy="46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acecraft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D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velopment Plan and Schedul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cc00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cc00"/>
                </a:solidFill>
                <a:latin typeface="Arial"/>
              </a:rPr>
              <a:t>BDA vibration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00-mK thermal str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cc00"/>
              </a:buClr>
              <a:buFont typeface="Arial"/>
              <a:buAutoNum type="arabicPeriod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GB" sz="2000" spc="-1" strike="noStrike">
                <a:solidFill>
                  <a:srgbClr val="00cc00"/>
                </a:solidFill>
                <a:latin typeface="Arial"/>
              </a:rPr>
              <a:t>FPU Structure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vib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RCU Development Plan and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cc00"/>
              </a:buClr>
              <a:buFont typeface="Arial"/>
              <a:buAutoNum type="arabicPeriod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GB" sz="2000" spc="-1" strike="noStrike">
                <a:solidFill>
                  <a:srgbClr val="00cc00"/>
                </a:solidFill>
                <a:latin typeface="Arial"/>
              </a:rPr>
              <a:t>DRCU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cc00"/>
              </a:buClr>
              <a:buFont typeface="Arial"/>
              <a:buAutoNum type="arabicPeriod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GB" sz="2000" spc="-1" strike="noStrike">
                <a:solidFill>
                  <a:srgbClr val="00cc00"/>
                </a:solidFill>
                <a:latin typeface="Arial"/>
              </a:rPr>
              <a:t>BSM Development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cc00"/>
              </a:buClr>
              <a:buFont typeface="Arial"/>
              <a:buAutoNum type="arabicPeriod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GB" sz="2000" spc="-1" strike="noStrike">
                <a:solidFill>
                  <a:srgbClr val="00cc00"/>
                </a:solidFill>
                <a:latin typeface="Arial"/>
              </a:rPr>
              <a:t>UK Project Team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S effort at IF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cc00"/>
              </a:buClr>
              <a:buFont typeface="Arial"/>
              <a:buAutoNum type="arabicPeriod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GB" sz="2000" spc="-1" strike="noStrike">
                <a:solidFill>
                  <a:srgbClr val="00cc00"/>
                </a:solidFill>
                <a:latin typeface="Arial"/>
              </a:rPr>
              <a:t>Shutter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cc00"/>
              </a:buClr>
              <a:buFont typeface="Arial"/>
              <a:buAutoNum type="arabicPeriod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GB" sz="2000" spc="-1" strike="noStrike">
                <a:solidFill>
                  <a:srgbClr val="00cc00"/>
                </a:solidFill>
                <a:latin typeface="Arial"/>
              </a:rPr>
              <a:t>AIV Fac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MECA/FD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03320" y="4662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Critical Items List</a:t>
            </a:r>
            <a:endParaRPr b="1" lang="en-US" sz="2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4440" y="1114560"/>
            <a:ext cx="832968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PIRE-UCF-PRJ-001138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s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t of issues requi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tion to maintain the projec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the instrument development plan and scientifi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tention from the Project Team 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ltati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 relevant subsystem groups, ESA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industr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 is tracked in regular Project Team meeting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ings and telecons as appropr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item is the responsibility of one particular individual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jec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ach area has a plan for resolution within a specific period 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 continuing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e details on most to be presented at this meeti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92240" y="598320"/>
            <a:ext cx="598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1.   SPIRE Instrument Sched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6480" y="1201680"/>
            <a:ext cx="795816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riginal development plan must be adapted if PFM is to b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livered on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-time delivery of the original CQM is not feasible withou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tenably limited and risky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 alternative plan has been devised and proposed to ESA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dustry in April, and described in detail for this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already being implemented (SM/AM programme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urpose of this adapted plan: to protect as much 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ssible the on-time delivery of the PFM </a:t>
            </a:r>
            <a:br>
              <a:rPr sz="2000"/>
            </a:br>
            <a:r>
              <a:rPr b="1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vised programme has pros and con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blems with subsystem deliveries will need to be solved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92240" y="598320"/>
            <a:ext cx="598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2.   SM/AM/CQM Program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2160" y="1401840"/>
            <a:ext cx="761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irst assembly and test of many subsystem and system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ny “small” problems to be sorted out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Team places high priority on addressing thes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sues sometimes at the expense of other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chedule is vulnerable to any problems with AIV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ac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92240" y="598320"/>
            <a:ext cx="598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3.   DRCU Development Pl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5120" y="1158840"/>
            <a:ext cx="82011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riginal DRCU development plan involves waiting until QM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ign verified by instrument CQM tests before starting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FM programm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now incompatible with the SPIRE Instrument schedul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with on-time PFM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ussion and analysis of various scenarios has been tak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lace since DRCU review in M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sue exemplifies the general issue of risk-cost-schedul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radeoffs in SPIRE (and Herschel-Planck)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be highlighted at this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PIRE asks the Review Board to formulate an unambiguou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commendation on this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20920" y="569880"/>
            <a:ext cx="598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4.   FDI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101600"/>
            <a:ext cx="761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low progress due to lack of resources and l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 from subsystem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ll information is now available, and additional effor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being deplo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W-SW Interaction Analysis now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19160" y="584280"/>
            <a:ext cx="5989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5.   Spacecraft Thermal Interfa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0800" y="1203480"/>
            <a:ext cx="8007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mal performance is critical for SPIRE’s scientific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blems with cooler hold time, temperature stability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absolute detector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ing iteration between SPIRE/Industry/ESA on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PIRE requirements and interfaces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agmatic approach being adopted with industry/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PIRE is implementing all possible measures to improv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mal performance - see also 7 (FPU support redesign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8 (SPIRE Level-0 strap inter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19160" y="584280"/>
            <a:ext cx="5989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6.   EMC: Harness overshielding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600" y="1260360"/>
            <a:ext cx="8164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PIRE grounding scheme requires overshielding 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ryoharness inside CVV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requirement is not formally accepted by the ESA Projec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April SPIRE requested reconsideration of this decisio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sed on high risk to scientific performa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actical discussions with industry may result in workabl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19040" y="598320"/>
            <a:ext cx="7347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7.   FPU and Level-0 Detector Box Suppor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6400" y="1474920"/>
            <a:ext cx="8007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mal isolation of the FPU and detector enclosures need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be improved for better thermal performa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programme has been started to develop carbon fib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ports to replace current stainles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eel support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jor late design change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w supports will not be ready for the CQM – qualificatio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ill have to be on the P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3:25:06Z</dcterms:created>
  <dc:creator>Matt Griffin</dc:creator>
  <dc:description/>
  <dc:language>en-US</dc:language>
  <cp:lastModifiedBy>Matt Griffin</cp:lastModifiedBy>
  <dcterms:modified xsi:type="dcterms:W3CDTF">2003-07-08T16:05:24Z</dcterms:modified>
  <cp:revision>62</cp:revision>
  <dc:subject/>
  <dc:title>Presentation Title</dc:title>
</cp:coreProperties>
</file>