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960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3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960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6408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Comments from ESA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          Eric Sawyer  RAL 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fld id="{6A25A4CA-728F-4A27-A5DB-32F6D4C6EB9A}" type="slidenum"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228600"/>
            <a:ext cx="7086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Instrument Hardware Design Review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AL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July 9, 10 2003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48428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484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Arial"/>
              </a:rPr>
              <a:t>Comments from ESA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Eric Sawyer</a:t>
            </a:r>
            <a:br>
              <a:rPr sz="2500"/>
            </a:br>
            <a:br>
              <a:rPr sz="3300"/>
            </a:b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RA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96960" y="13870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ientific performance - Will be addressed by Matt in the next presentation and the thermal design present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mal interface – This is a major issue and the status will be presented later, we would welcome a splinter (management)  is the correct people are pre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lification of SMEC and BDA – Status will be presented in the subsystem sections. We agreed these are critical issues and this is why we accelerated the first warm vib test.  We are now in a good position to specify leve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model – The document describing the mechanical model has not been updated recently are is still valid. More in the subsystem re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66920" y="797040"/>
            <a:ext cx="7002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640" y="13744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hedule and model philosophy – This is a critical area and will be presented in detail early in the revie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V plan – Flow charts are/will be in the individual model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S development and SPIRE Data ICD – The OBS development is described in the IFSI doc, DPU development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 documentation – we are actively progressing the subsystem CIDL and progress is being ma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cumentation status – If documents have not been updated since the IBDR, it is because they do not need updating or were considered a low priority. Ref IHDR preparation pl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66920" y="797040"/>
            <a:ext cx="7002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3:25:06Z</dcterms:created>
  <dc:creator>Matt Griffin</dc:creator>
  <dc:description/>
  <dc:language>en-US</dc:language>
  <cp:lastModifiedBy>ECS53</cp:lastModifiedBy>
  <dcterms:modified xsi:type="dcterms:W3CDTF">2003-07-08T14:34:12Z</dcterms:modified>
  <cp:revision>23</cp:revision>
  <dc:subject/>
  <dc:title>Presentation Title</dc:title>
</cp:coreProperties>
</file>