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23960" y="144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23960" y="3594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3960" y="144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6640" y="144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23960" y="3594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6640" y="3594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23960" y="144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1960" y="144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9600" y="144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23960" y="3594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1960" y="3594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9600" y="3594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23960" y="144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23960" y="144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3960" y="1444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6640" y="1444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23960" y="144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6640" y="1444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23960" y="3594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23960" y="1444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6640" y="144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6640" y="3594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23960" y="144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6640" y="144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23960" y="3594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23960" y="144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09480" y="6364080"/>
            <a:ext cx="7848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1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3333cc"/>
                </a:solidFill>
                <a:latin typeface="Times New Roman"/>
              </a:rPr>
              <a:t>Critical Items List</a:t>
            </a:r>
            <a:r>
              <a:rPr b="1" lang="en-GB" sz="1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11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GB" sz="1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1100" spc="-1" strike="noStrike">
                <a:solidFill>
                  <a:srgbClr val="3333cc"/>
                </a:solidFill>
                <a:latin typeface="Times New Roman"/>
              </a:rPr>
              <a:t>Matt Griffin,  Cardiff University </a:t>
            </a:r>
            <a:r>
              <a:rPr b="1" lang="en-GB" sz="1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1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1100" spc="-1" strike="noStrike">
                <a:solidFill>
                  <a:srgbClr val="3333cc"/>
                </a:solidFill>
                <a:latin typeface="Times New Roman"/>
              </a:rPr>
              <a:t>	</a:t>
            </a:r>
            <a:fld id="{4AF4A480-258C-4C5A-B614-DDD20EFC31DB}" type="slidenum">
              <a:rPr b="1" lang="en-GB" sz="11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r>
              <a:rPr b="1" lang="en-GB" sz="1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447920" y="228600"/>
            <a:ext cx="70866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Instrument Hardware Design Review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RAL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July 9, 10 2003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0"/>
          <a:ext cx="1484280" cy="80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48428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11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33cc"/>
                </a:solidFill>
                <a:latin typeface="Arial"/>
              </a:rPr>
              <a:t>Instrument Design and Performance Update</a:t>
            </a:r>
            <a:br>
              <a:rPr sz="3300"/>
            </a:br>
            <a:br>
              <a:rPr sz="3300"/>
            </a:br>
            <a:br>
              <a:rPr sz="3300"/>
            </a:br>
            <a:r>
              <a:rPr b="1" lang="en-GB" sz="2500" spc="-1" strike="noStrike">
                <a:solidFill>
                  <a:srgbClr val="0033cc"/>
                </a:solidFill>
                <a:latin typeface="Arial"/>
              </a:rPr>
              <a:t>Matt Griffin</a:t>
            </a:r>
            <a:br>
              <a:rPr sz="2500"/>
            </a:br>
            <a:br>
              <a:rPr sz="3300"/>
            </a:br>
            <a:r>
              <a:rPr b="1" lang="en-GB" sz="2500" spc="-1" strike="noStrike">
                <a:solidFill>
                  <a:srgbClr val="0033cc"/>
                </a:solidFill>
                <a:latin typeface="Arial"/>
              </a:rPr>
              <a:t>Cardiff University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73120" y="682560"/>
            <a:ext cx="7140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ff"/>
                </a:solidFill>
                <a:latin typeface="Arial"/>
              </a:rPr>
              <a:t>Best, Nominal and Worst Case Paramete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51040" y="1735200"/>
            <a:ext cx="7540560" cy="42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GB" sz="100" spc="-1" strike="noStrike">
                <a:solidFill>
                  <a:srgbClr val="000000"/>
                </a:solidFill>
                <a:latin typeface="Arial"/>
                <a:ea typeface="Arial"/>
              </a:rPr>
              <a:t>#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Telescope temperature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6600"/>
                </a:solidFill>
                <a:latin typeface="Arial"/>
                <a:ea typeface="Arial"/>
              </a:rPr>
              <a:t>60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80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  <a:ea typeface="Arial"/>
              </a:rPr>
              <a:t>9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Telescope emissivity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6600"/>
                </a:solidFill>
                <a:latin typeface="Arial"/>
                <a:ea typeface="Arial"/>
              </a:rPr>
              <a:t>0.02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0.04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  <a:ea typeface="Arial"/>
              </a:rPr>
              <a:t>0.0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Feedhorn/cavity efficiency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6600"/>
                </a:solidFill>
                <a:latin typeface="Arial"/>
                <a:ea typeface="Arial"/>
              </a:rPr>
              <a:t>0.8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0.7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  <a:ea typeface="Arial"/>
              </a:rPr>
              <a:t>0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Bolometer R</a:t>
            </a:r>
            <a:r>
              <a:rPr b="1" lang="en-GB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6600"/>
                </a:solidFill>
                <a:latin typeface="Arial"/>
                <a:ea typeface="Arial"/>
              </a:rPr>
              <a:t>180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100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  <a:ea typeface="Arial"/>
              </a:rPr>
              <a:t>7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Bolometer temperature (mK)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6600"/>
                </a:solidFill>
                <a:latin typeface="Arial"/>
                <a:ea typeface="Arial"/>
              </a:rPr>
              <a:t>300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320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  <a:ea typeface="Arial"/>
              </a:rPr>
              <a:t>3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JFET noise (nV Hz</a:t>
            </a:r>
            <a:r>
              <a:rPr b="1" lang="en-GB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/2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6600"/>
                </a:solidFill>
                <a:latin typeface="Arial"/>
                <a:ea typeface="Arial"/>
              </a:rPr>
              <a:t>7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10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  <a:ea typeface="Arial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Bolometer yield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6600"/>
                </a:solidFill>
                <a:latin typeface="Arial"/>
                <a:ea typeface="Arial"/>
              </a:rPr>
              <a:t>0.9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0.8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  <a:ea typeface="Arial"/>
              </a:rPr>
              <a:t>0.7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Overall inst. transmission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6600"/>
                </a:solidFill>
                <a:latin typeface="Arial"/>
                <a:ea typeface="Arial"/>
              </a:rPr>
              <a:t>0.48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0.4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  <a:ea typeface="Arial"/>
              </a:rPr>
              <a:t>0.3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Observing efficiency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6600"/>
                </a:solidFill>
                <a:latin typeface="Arial"/>
                <a:ea typeface="Arial"/>
              </a:rPr>
              <a:t>0.95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0.85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  <a:ea typeface="Arial"/>
              </a:rPr>
              <a:t>0.7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46640" y="1425600"/>
            <a:ext cx="30733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6600"/>
                </a:solidFill>
                <a:uFillTx/>
                <a:latin typeface="Arial"/>
              </a:rPr>
              <a:t>Best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  Nominal  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Worst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9360" y="566640"/>
            <a:ext cx="67010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ff"/>
                </a:solidFill>
                <a:latin typeface="Arial"/>
              </a:rPr>
              <a:t>Background Power, NEP and DQE</a:t>
            </a:r>
            <a:br>
              <a:rPr sz="2500"/>
            </a:br>
            <a:r>
              <a:rPr b="1" lang="en-GB" sz="2500" spc="-1" strike="noStrike">
                <a:solidFill>
                  <a:srgbClr val="0000ff"/>
                </a:solidFill>
                <a:latin typeface="Arial"/>
              </a:rPr>
              <a:t>(Nominal Case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79360" y="1714680"/>
          <a:ext cx="8077320" cy="351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1714680"/>
                    <a:ext cx="8077320" cy="35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65240" y="595440"/>
            <a:ext cx="70182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ff"/>
                </a:solidFill>
                <a:latin typeface="Arial"/>
              </a:rPr>
              <a:t>Photometer Sensitivity 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(Nominal Case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44600" y="1346040"/>
          <a:ext cx="8204040" cy="370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1346040"/>
                    <a:ext cx="8204040" cy="37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657360" y="4956120"/>
            <a:ext cx="804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O estimates (point source, 5-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1-hr) &lt; 4 mJy in all three b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021040" y="339840"/>
            <a:ext cx="59893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ff"/>
                </a:solidFill>
                <a:latin typeface="Arial"/>
              </a:rPr>
              <a:t>Mapping Speed </a:t>
            </a:r>
            <a:r>
              <a:rPr b="1" lang="en-GB" sz="2500" spc="-1" strike="noStrike">
                <a:solidFill>
                  <a:srgbClr val="006600"/>
                </a:solidFill>
                <a:latin typeface="Arial"/>
              </a:rPr>
              <a:t>(Best Case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20640" y="973080"/>
          <a:ext cx="8199360" cy="533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973080"/>
                    <a:ext cx="8199360" cy="53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021040" y="339840"/>
            <a:ext cx="59893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ff"/>
                </a:solidFill>
                <a:latin typeface="Arial"/>
              </a:rPr>
              <a:t>Mapping Speed </a:t>
            </a:r>
            <a:r>
              <a:rPr b="1" lang="en-GB" sz="2500" spc="-1" strike="noStrike">
                <a:solidFill>
                  <a:srgbClr val="ff0000"/>
                </a:solidFill>
                <a:latin typeface="Arial"/>
              </a:rPr>
              <a:t>(Worst Case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80880" y="965160"/>
          <a:ext cx="8763120" cy="529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65160"/>
                    <a:ext cx="8763120" cy="52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620720" y="468360"/>
            <a:ext cx="6446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ff"/>
                </a:solidFill>
                <a:latin typeface="Arial"/>
              </a:rPr>
              <a:t>Line Spectroscopy  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(Nominal Case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43080" y="927000"/>
          <a:ext cx="8483400" cy="529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927000"/>
                    <a:ext cx="8483400" cy="52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812880" y="5981760"/>
            <a:ext cx="77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O estimat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5-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1-hr:  4 x 10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17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W m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in 200-400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722600" y="519120"/>
            <a:ext cx="5989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ff"/>
                </a:solidFill>
                <a:latin typeface="Arial"/>
              </a:rPr>
              <a:t>Line Spectroscopy  </a:t>
            </a:r>
            <a:r>
              <a:rPr b="1" lang="en-GB" sz="2500" spc="-1" strike="noStrike">
                <a:solidFill>
                  <a:srgbClr val="006600"/>
                </a:solidFill>
                <a:latin typeface="Arial"/>
              </a:rPr>
              <a:t>(Best Case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09480" y="990720"/>
          <a:ext cx="7937640" cy="538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90720"/>
                    <a:ext cx="7937640" cy="53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22600" y="519120"/>
            <a:ext cx="5989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ff"/>
                </a:solidFill>
                <a:latin typeface="Arial"/>
              </a:rPr>
              <a:t>Line Spectroscopy  </a:t>
            </a:r>
            <a:r>
              <a:rPr b="1" lang="en-GB" sz="2500" spc="-1" strike="noStrike">
                <a:solidFill>
                  <a:srgbClr val="ff0000"/>
                </a:solidFill>
                <a:latin typeface="Arial"/>
              </a:rPr>
              <a:t>(Worst Case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35040" y="1015920"/>
          <a:ext cx="7937640" cy="537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1015920"/>
                    <a:ext cx="7937640" cy="53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785960" y="582480"/>
            <a:ext cx="5989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ff"/>
                </a:solidFill>
                <a:latin typeface="Arial"/>
              </a:rPr>
              <a:t>Low-Resolution Spectrophotometry 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(Nominal Case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23960" y="1663560"/>
          <a:ext cx="7531200" cy="265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663560"/>
                    <a:ext cx="753120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96880" y="397512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O proposal estimat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5-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; 1-hr:  130 mJy  in 200-400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73160" y="406080"/>
            <a:ext cx="679464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ff"/>
                </a:solidFill>
                <a:latin typeface="Arial"/>
              </a:rPr>
              <a:t>Thermal Stability: </a:t>
            </a:r>
            <a:br>
              <a:rPr sz="2300"/>
            </a:br>
            <a:r>
              <a:rPr b="1" lang="en-GB" sz="2300" spc="-1" strike="noStrike">
                <a:solidFill>
                  <a:srgbClr val="0000ff"/>
                </a:solidFill>
                <a:latin typeface="Arial"/>
              </a:rPr>
              <a:t>Thermal Control Hardware now Baselined</a:t>
            </a:r>
            <a:endParaRPr b="1" lang="en-US" sz="23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06520" y="1112760"/>
            <a:ext cx="8256600" cy="50151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739880" y="1584360"/>
            <a:ext cx="2462400" cy="768240"/>
          </a:xfrm>
          <a:prstGeom prst="borderCallout1">
            <a:avLst>
              <a:gd name="adj1" fmla="val 18750"/>
              <a:gd name="adj2" fmla="val -8333"/>
              <a:gd name="adj3" fmla="val 259296"/>
              <a:gd name="adj4" fmla="val 10928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BDA hits limit at ~29.5 h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89560" y="3363840"/>
            <a:ext cx="1304640" cy="7174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8960" y="4971960"/>
            <a:ext cx="2176560" cy="768600"/>
          </a:xfrm>
          <a:prstGeom prst="borderCallout1">
            <a:avLst>
              <a:gd name="adj1" fmla="val 18750"/>
              <a:gd name="adj2" fmla="val -8333"/>
              <a:gd name="adj3" fmla="val -114050"/>
              <a:gd name="adj4" fmla="val -4697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Useable time for scan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2880" y="6014880"/>
            <a:ext cx="664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300 mK:  0.6 to 1.2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K/Hz</a:t>
            </a:r>
            <a:r>
              <a:rPr b="1" lang="en-GB" sz="2200" spc="-1" strike="noStrike" baseline="30000">
                <a:solidFill>
                  <a:srgbClr val="000000"/>
                </a:solidFill>
                <a:latin typeface="Arial"/>
              </a:rPr>
              <a:t>1/2 </a:t>
            </a:r>
            <a:r>
              <a:rPr b="1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0.06 mK hr</a:t>
            </a:r>
            <a:r>
              <a:rPr b="1" lang="en-GB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66760" y="1006560"/>
            <a:ext cx="8547120" cy="49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hotometer</a:t>
            </a:r>
            <a:br>
              <a:rPr sz="22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ep mapping with highest efficiency and largest possible field of view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-band coverage with simultaneous observation </a:t>
            </a:r>
            <a:br>
              <a:rPr sz="16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nt and compact source observation with high efficienc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ectromet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sitivity optimised for point/compact source spectroscop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g spectroscopy with max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mu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vailable field of view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de wavelength coverag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 spectral resolution (few x 10 to few x 1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br>
              <a:rPr sz="1800"/>
            </a:br>
            <a:br>
              <a:rPr sz="4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th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mal background dominated by the Herschel telescop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plicity, affordability, reliability, ease of operatio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mentary to other Herschel instruments and other fac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8640" y="477360"/>
            <a:ext cx="7772400" cy="4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Instrument Design Drivers</a:t>
            </a:r>
            <a:endParaRPr b="1" lang="en-US" sz="2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41200" y="930240"/>
            <a:ext cx="5829480" cy="53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-band imaging photometer</a:t>
            </a:r>
            <a:br>
              <a:rPr sz="22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0, 3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 5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 (simultaneou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bserv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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~ 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x 8 arcminute field of view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on limited beams (17, 24, 35”) </a:t>
            </a:r>
            <a:br>
              <a:rPr sz="1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maging F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 - 670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6 arcminute field of view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=  0.04 – 2 c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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~ 20 - 1000 at 250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)</a:t>
            </a:r>
            <a:br>
              <a:rPr sz="2000"/>
            </a:br>
            <a:br>
              <a:rPr sz="1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sign featur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sitivity limited by thermal emission fro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elescope  (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ssump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 K;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4%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cooled detector arrays (0.3 K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edhorn-coupled spider web NTD bolometer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al use of mechanism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m steering mirror;   FTS mirror driv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on-board data processing or compress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ple commanding schem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753160" y="1206360"/>
            <a:ext cx="3060720" cy="4864320"/>
            <a:chOff x="5753160" y="1206360"/>
            <a:chExt cx="3060720" cy="4864320"/>
          </a:xfrm>
        </p:grpSpPr>
        <p:sp>
          <p:nvSpPr>
            <p:cNvPr id="47" name=""/>
            <p:cNvSpPr/>
            <p:nvPr/>
          </p:nvSpPr>
          <p:spPr>
            <a:xfrm>
              <a:off x="5943600" y="1206360"/>
              <a:ext cx="2870280" cy="4864320"/>
            </a:xfrm>
            <a:prstGeom prst="rect">
              <a:avLst/>
            </a:prstGeom>
            <a:solidFill>
              <a:srgbClr val="ffff99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cryostat" descr=""/>
            <p:cNvPicPr/>
            <p:nvPr/>
          </p:nvPicPr>
          <p:blipFill>
            <a:blip r:embed="rId1"/>
            <a:stretch/>
          </p:blipFill>
          <p:spPr>
            <a:xfrm>
              <a:off x="6086520" y="2135160"/>
              <a:ext cx="2546280" cy="29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753160" y="2082960"/>
              <a:ext cx="111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PA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943600" y="2476440"/>
              <a:ext cx="85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cc00"/>
                  </a:solidFill>
                  <a:latin typeface="Arial"/>
                </a:rPr>
                <a:t>HI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759800" y="2146320"/>
              <a:ext cx="97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00"/>
                  </a:solidFill>
                  <a:latin typeface="Arial"/>
                </a:rPr>
                <a:t>SPI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6997680" y="1828440"/>
              <a:ext cx="177840" cy="50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19920" y="1422360"/>
              <a:ext cx="15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ryostat l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70880" y="147312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aff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7620120" y="1790640"/>
              <a:ext cx="203040" cy="41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188120" y="3492360"/>
              <a:ext cx="635040" cy="161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043760" y="5079960"/>
              <a:ext cx="1287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erschel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ptical ben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7505640" y="2489040"/>
              <a:ext cx="596880" cy="57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6501960" y="2806560"/>
              <a:ext cx="330120" cy="19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6641640" y="2387160"/>
              <a:ext cx="203400" cy="40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8640" y="439560"/>
            <a:ext cx="7772400" cy="4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Instrument </a:t>
            </a: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Summary</a:t>
            </a:r>
            <a:endParaRPr b="1" lang="en-US" sz="2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92160" y="583920"/>
            <a:ext cx="57787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ff"/>
                </a:solidFill>
                <a:latin typeface="Arial"/>
              </a:rPr>
              <a:t>SPIRE Functional Block Diagram</a:t>
            </a:r>
            <a:endParaRPr b="1" lang="en-US" sz="2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93840" y="1085760"/>
            <a:ext cx="8285040" cy="502920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351000" y="1882800"/>
            <a:ext cx="1590480" cy="2976480"/>
            <a:chOff x="351000" y="1882800"/>
            <a:chExt cx="1590480" cy="2976480"/>
          </a:xfrm>
        </p:grpSpPr>
        <p:sp>
          <p:nvSpPr>
            <p:cNvPr id="66" name=""/>
            <p:cNvSpPr/>
            <p:nvPr/>
          </p:nvSpPr>
          <p:spPr>
            <a:xfrm>
              <a:off x="1219320" y="1882800"/>
              <a:ext cx="676080" cy="1219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265400" y="2682720"/>
              <a:ext cx="676080" cy="3985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51000" y="3639960"/>
              <a:ext cx="822240" cy="121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20600" y="3143160"/>
              <a:ext cx="874800" cy="68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469880" y="4014720"/>
              <a:ext cx="397080" cy="331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19320" y="3975120"/>
              <a:ext cx="212760" cy="4507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38120" y="3886200"/>
              <a:ext cx="451080" cy="61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58720" y="1260360"/>
            <a:ext cx="751860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letion of shutter (CTA will provide representative phot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ckground)</a:t>
            </a:r>
            <a:br>
              <a:rPr sz="1800"/>
            </a:br>
            <a:br>
              <a:rPr sz="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finition of grounding scheme in September 2002</a:t>
            </a:r>
            <a:br>
              <a:rPr sz="1800"/>
            </a:br>
            <a:br>
              <a:rPr sz="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rmal straps: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00 mK design evolved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evel-0 in redesign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evel-3 (15-K) dedicated JFET thermal strap implemented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 dump heat into the boil-off gas</a:t>
            </a:r>
            <a:br>
              <a:rPr sz="1800"/>
            </a:br>
            <a:br>
              <a:rPr sz="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PU and detector box supports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ange from stainless steel to carbon fibre pro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br>
              <a:rPr sz="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ld redundancy implemented for P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8640" y="439560"/>
            <a:ext cx="7772400" cy="4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Design Changes Since IBDR</a:t>
            </a:r>
            <a:endParaRPr b="1" lang="en-US" sz="2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84280" y="1260360"/>
            <a:ext cx="7818480" cy="44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ee</a:t>
            </a:r>
            <a:br>
              <a:rPr sz="4000"/>
            </a:br>
            <a:br>
              <a:rPr sz="2000"/>
            </a:br>
            <a:r>
              <a:rPr b="1" i="1" lang="en-GB" sz="4000" spc="-1" strike="noStrike">
                <a:solidFill>
                  <a:srgbClr val="0000ff"/>
                </a:solidFill>
                <a:latin typeface="Arial"/>
              </a:rPr>
              <a:t>SPIRE Design Description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IRE-RAL-PRJ-00062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for a comprehensive overview and description of the instru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8640" y="477360"/>
            <a:ext cx="7772400" cy="4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Instrument </a:t>
            </a: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Design Overview</a:t>
            </a:r>
            <a:endParaRPr b="1" lang="en-US" sz="2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54080" y="939600"/>
            <a:ext cx="82072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strument design is stable and meets scientific requirements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PIRE has already started to allow schedule to take priority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 scientific optimisation of instrument performance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i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maining technical challenges require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“hard work” rather than new develop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rmal mechanical enginee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57760" indent="-280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Thermal straps: good progress but a lot to be don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57760" indent="-280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JFET dissipation: Not to be a major system problem </a:t>
            </a:r>
            <a:br>
              <a:rPr sz="1700"/>
            </a:b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but work needed to prevent performance degradation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57760" indent="-280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System-level thermal modelling urgently needed </a:t>
            </a:r>
            <a:br>
              <a:rPr sz="1700"/>
            </a:b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to assess whether the instrument as designed will </a:t>
            </a:r>
            <a:br>
              <a:rPr sz="1700"/>
            </a:b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operate in the right environment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57760" indent="-280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STM programme will provide early verification of  </a:t>
            </a:r>
            <a:br>
              <a:rPr sz="1700"/>
            </a:b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performance and mitigate risk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MC and microphon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ray light minimisation and prediction: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quires system-level model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bsystem performance (esp. mechanisms, detector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117080" y="375840"/>
            <a:ext cx="7039080" cy="4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ff"/>
                </a:solidFill>
                <a:latin typeface="Arial"/>
              </a:rPr>
              <a:t>Viewgraph from IBDR Presentation</a:t>
            </a:r>
            <a:endParaRPr b="1" lang="en-US" sz="25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077920" y="468360"/>
            <a:ext cx="598968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ff"/>
                </a:solidFill>
                <a:latin typeface="Arial"/>
              </a:rPr>
              <a:t>Sensitivity Model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2480" y="1235160"/>
            <a:ext cx="7775640" cy="23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ensitivity estimates detailed in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PIRE-QMW-NOT-00064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ssue 3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hotometer sensitivity model updated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TS model not updated (but new estimates ar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esented he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077920" y="468360"/>
            <a:ext cx="598968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ff"/>
                </a:solidFill>
                <a:latin typeface="Arial"/>
              </a:rPr>
              <a:t>Model Updat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8040" y="1146240"/>
            <a:ext cx="7775640" cy="42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hysical bolometer model incorpora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Telescope obscuration up from 3% to 1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Lower bolometer R</a:t>
            </a:r>
            <a:r>
              <a:rPr b="1" lang="en-GB" sz="20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o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(was 180 </a:t>
            </a:r>
            <a:r>
              <a:rPr b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, now 100 </a:t>
            </a:r>
            <a:r>
              <a:rPr b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Additional </a:t>
            </a:r>
            <a:r>
              <a:rPr b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2 noise contribution due to </a:t>
            </a:r>
            <a:br>
              <a:rPr sz="2000"/>
            </a:b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LIA demodulation inclu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Nominal bolometer temperature up to 320 m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66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6600"/>
                </a:solidFill>
                <a:latin typeface="Arial"/>
                <a:ea typeface="Arial"/>
              </a:rPr>
              <a:t>Overall transmission increased from 30% to 4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66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6600"/>
                </a:solidFill>
                <a:latin typeface="Arial"/>
                <a:ea typeface="Arial"/>
              </a:rPr>
              <a:t>Feed efficiencies increased sligh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minal, best and worst case values studied for all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611760" y="1166760"/>
          <a:ext cx="205920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11760" y="1166760"/>
                    <a:ext cx="205920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3:25:06Z</dcterms:created>
  <dc:creator>Matt Griffin</dc:creator>
  <dc:description/>
  <dc:language>en-US</dc:language>
  <cp:lastModifiedBy>Matt Griffin</cp:lastModifiedBy>
  <dcterms:modified xsi:type="dcterms:W3CDTF">2003-07-08T13:57:52Z</dcterms:modified>
  <cp:revision>119</cp:revision>
  <dc:subject/>
  <dc:title>Presentation Title</dc:title>
</cp:coreProperties>
</file>